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3108-F11C-4E7F-BB71-D59B01A3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C467-239B-4F04-96D5-2BB9E76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9176-587B-4FB7-9076-65AC409E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77FE-77F3-4E5D-90D1-1C53BEA0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BD6-4B17-4F9B-B2AB-534E792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947-891C-4577-9E20-AF317B49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215-A602-46CB-9688-2F490AF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FF9C-A75E-495E-9432-00790D6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5E9-1095-4B52-B37D-64C69A8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49A-11DE-4185-8ECC-167EEE9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85F-4E4C-45A9-8D70-FE87614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38B6-1137-493C-AC40-4F6B783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5942-A7F9-43FC-A303-8FA6834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B7C6-9A5C-457B-A314-53CABA1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378B-ABE8-4DD0-8BA8-30B51BFA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11ED-25DC-49DC-A7C1-41D57018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9A3-A8C0-4141-A63F-3F311526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E4A5-45B4-42D7-A70A-8EED725A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F60E-CB24-46C5-99C2-CE92C3D1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0CF9-450B-4525-9895-2AB2CD8B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FA68-1132-4AF3-94E9-C592229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632B-4790-4A5B-9627-E556C41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2902-26E2-4B5A-9125-2BDE9455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32B1-3417-4EE2-8DDA-FFECA75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4033-5B49-442F-A727-70DCD1E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9301-7F4D-43DE-A042-ECD3548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D2C0-E5C4-4AD0-B1DF-FEF21C9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E828-61B9-49B7-867A-125CC47E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9860-B38F-4994-8240-53307035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94C9-E2FF-4827-B4DD-5537734B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C746-FD08-4153-AA06-F0426455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F695-5262-4732-86CF-13D2187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6583-F199-4D8E-8BFB-A11498AA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E0A1-D498-4948-BA28-23D0D28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D78E-0609-4862-AAF6-81CC6E5B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162F-3B51-4C8A-B16B-22F72CD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ED41-9B1D-4042-9F7C-7451E7F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E108-43E7-4816-A7CB-A54FEFE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5DEC-82E3-4F37-97D7-F57C9E8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C8E7-F3E4-445C-A286-BF8BFB2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C0E8-FD40-4FC1-9D5E-B643678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4778-18D1-46AF-8451-3A277F89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6971-B8A4-4801-B13C-A911CD86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DC0D-3E83-4DA1-87AF-AE12DAF4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C6C4-68B9-4AC1-9AB3-BA99BB76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CCEA-C54B-4557-BBCD-131C965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750B-CDCB-419C-B3AE-1019BE5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C257-9162-4975-A232-13EE1EB3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6CABE-B6B5-49DA-A053-D866D2C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8870-AAE0-4998-9940-67EE86C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5B8F-8009-4835-958B-085F7C9C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C10EF-5D6F-422D-A61A-F71AF62E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D081-D040-459F-AD9C-135DBD9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3305F-18D6-41A5-9384-8ABEAAF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B856-CF1C-44C1-9C3A-6C08FD46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DF01-7DC4-4EFB-84D2-B6A77918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12BA4-C56B-49A8-AAAD-37308150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B8EE-95F8-403A-BD34-31002D5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FE83-0A4E-40D2-8C2B-155C578C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C762-3050-4B24-9868-BBD05D3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13F2-E602-4CDF-9105-F656D950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258A-F439-4F9F-8DEC-14373A5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BA0A-BA14-4EA0-9ADF-1D2D664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8387B-DBDA-4861-827E-1F1474D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48CF-0A08-4D81-AF53-6ABFC13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DD79B-911F-4FD1-B13E-CB65713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6F7E-9DDC-4A16-9FB1-C855450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051B-9F78-48FE-817D-389DD03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642A-D024-48FF-B810-88690858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56C2-9152-40D6-9E48-542CD4C9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5B75-CD84-47D8-B38C-F46F5179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9608-1350-4758-BC8F-2FD0B92A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F95B-B3A2-4635-B0FC-B875FE8B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1FEE2-A5A8-4F72-B8F9-952B3B1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B6BE-DC3D-47BE-B176-4F050DAB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7D5E-EB7A-4E51-9B82-5CE5482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E2DF-C5F2-48C6-ACBA-549BF775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160D-A803-4E77-9043-92378C7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CF63-50C9-4837-B478-678DB1C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3EE3B-614C-4267-B39B-AEAF0DC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13D6-442E-48A1-A5E7-383BB7E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19BD-FE5B-4C6A-9FBD-4747C015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D2C1-52BB-47E0-ADAF-9B9AB45F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3EA55-D6EF-4A17-B964-CF0778D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B7A8-7740-4871-8571-9A0DF451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DA2F-FA3E-464A-BCE1-62E8CDC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4BFD-96FC-4B2D-912B-F1EAFEE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3F98-2762-45FF-8842-9F8DCBEE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F879-260E-4303-989A-35A7CE8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DBDC-B265-4371-BEB8-66B895F5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DBE1-BD67-4A87-8E50-1BE8C09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BEE3-5DDF-4AA0-AD4C-28A90D7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6795-26E2-4513-BF8E-B984865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5836-A4F1-47F1-96D5-0F4D0A6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4AD5E-8EC2-472B-811F-D7839E46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2476-7B19-4B23-A0C8-1ACAB669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1A0-5806-4F58-9215-1334D3793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109-005B-4642-9451-88CC988E1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2D2-7D1F-46C9-A225-B0C697CA02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2C2-AF63-4677-8898-6B05703A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90E-6355-4A1C-AB8A-7E5D85BA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4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772-457C-4347-AF64-6CD8AB41C3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216-4859-4708-811F-020EBACE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4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08F3-BAED-494F-A1BF-29F7EA637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 viaje a dominican republic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ustin Bou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3595680" y="2766960"/>
            <a:ext cx="1952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AutoShape 12"/>
          <p:cNvSpPr/>
          <p:nvPr/>
        </p:nvSpPr>
        <p:spPr>
          <a:xfrm>
            <a:off x="3595680" y="2766960"/>
            <a:ext cx="1952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AutoShape 18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6024600" y="7486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publ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AutoShape 23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2" name="Picture 25" descr="spanish_fla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6"/>
          <p:cNvSpPr/>
          <p:nvPr/>
        </p:nvSpPr>
        <p:spPr>
          <a:xfrm>
            <a:off x="55627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aramond"/>
              </a:rPr>
              <a:t>Mi viaje a sp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5715000" y="2743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aramond"/>
              </a:rPr>
              <a:t>Por justin bourq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a Numero U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a mamma y papa. yo acaba de llego al hotel. El hotel is precioso. Se llama el marriot. La arena es tan cliente. La gente aqui es muy bueno. Tengo ir a comer. Adios mamma y pap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7" name="Picture 7" descr="Marriott Marbella Beach Resort, Marbella, Spain"/>
          <p:cNvPicPr/>
          <p:nvPr/>
        </p:nvPicPr>
        <p:blipFill>
          <a:blip r:embed="rId1"/>
          <a:stretch/>
        </p:blipFill>
        <p:spPr>
          <a:xfrm>
            <a:off x="6019920" y="4419720"/>
            <a:ext cx="20095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a numero 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encounte hoy en la playa. Tambien a nadar en la playa. Yo bronceado en la playa. Hoy fue inc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ίble. Me gustaria que estuvieras aq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5" descr="thumbnail"/>
          <p:cNvPicPr/>
          <p:nvPr/>
        </p:nvPicPr>
        <p:blipFill>
          <a:blip r:embed="rId1"/>
          <a:stretch/>
        </p:blipFill>
        <p:spPr>
          <a:xfrm>
            <a:off x="4724280" y="40384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numero t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lima de aqui es bueno. El sol es tan brillante. Fui a pescar hoy. Fue muy divertido. Cugi un gran pez. Tengo que 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5" descr="thumbnail"/>
          <p:cNvPicPr/>
          <p:nvPr/>
        </p:nvPicPr>
        <p:blipFill>
          <a:blip r:embed="rId1"/>
          <a:stretch/>
        </p:blipFill>
        <p:spPr>
          <a:xfrm>
            <a:off x="4800600" y="4167360"/>
            <a:ext cx="3238560" cy="21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38:52Z</dcterms:created>
  <dc:creator>bourquejus</dc:creator>
  <dc:description/>
  <dc:language>en-US</dc:language>
  <cp:lastModifiedBy>bourquejus</cp:lastModifiedBy>
  <dcterms:modified xsi:type="dcterms:W3CDTF">2011-12-02T19:57:58Z</dcterms:modified>
  <cp:revision>11</cp:revision>
  <dc:subject/>
  <dc:title>Mi viaje a</dc:title>
</cp:coreProperties>
</file>